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28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1302-676C-4AD7-8553-A52AF2CC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A9D0-A1F7-4FA9-BC8D-2990394A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C8F6-4640-46E1-AA74-0903DA1C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153B-00C5-46FF-8E1A-7D234F46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5DEE-2F9C-45E1-937E-ADBA4961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3526-B9BE-4A91-A425-FF89DB16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56A4-49BC-44F6-AB31-B93E7C7D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AA14-E5C6-4ABF-BAF5-23411BEF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9983-02AA-4154-BBA2-998433DA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F811-BDDC-452B-8BAD-C5967626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2E3A-F207-49FD-8C21-57C9272A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984C-59D0-47B3-91BB-6A003B2C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4E53-84EE-4C6A-B847-00BDA405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E53E-EDC4-48C1-966E-E9E39B7D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53A3-7665-4D9C-914E-CBF81F15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1B5A-0FBD-4ABB-806B-BFD55487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E540-FEF0-4DF3-853D-B000E38A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532-F7B7-4C82-AF4B-DD7D6497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D011-CD72-46A5-970E-8219B4CB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98EA-2759-4DF2-88D1-0D9BA222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743E-4C32-4F58-BCB1-B6B6C259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735-EFDC-44A8-8073-AFB37832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B59F-E8A7-45A4-9E2F-252D517B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34C-7704-4DB7-A3C8-BCC884DD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BBB8-F110-4672-9BB4-2740C36637B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BE84-1EC7-4F10-A1F6-89AB7520E9F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3.png"/><Relationship Id="rId4" Type="http://schemas.openxmlformats.org/officeDocument/2006/relationships/hyperlink" Target="http://www.musicmotion.com/product.htm?pid=405060" TargetMode="External"/><Relationship Id="rId5" Type="http://schemas.openxmlformats.org/officeDocument/2006/relationships/hyperlink" Target="http://www.musicmotion.com/product.htm?pid=405060" TargetMode="External"/><Relationship Id="rId6" Type="http://schemas.openxmlformats.org/officeDocument/2006/relationships/hyperlink" Target="http://www.musicmotion.com/product.htm?pid=405060" TargetMode="Externa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english.people.com.cn/200506/21/eng20050621_191504.html" TargetMode="External"/><Relationship Id="rId5" Type="http://schemas.openxmlformats.org/officeDocument/2006/relationships/hyperlink" Target="http://english.people.com.cn/200506/21/eng20050621_191504.html" TargetMode="External"/><Relationship Id="rId6" Type="http://schemas.openxmlformats.org/officeDocument/2006/relationships/hyperlink" Target="http://english.people.com.cn/200506/21/eng20050621_191504.html" TargetMode="Externa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hyperlink" Target="http://www.janadkins.com/treasure.html" TargetMode="Externa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Matura MT Script Capitals"/>
              </a:rPr>
              <a:t>Zheng He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Matura MT Script Capitals"/>
              </a:rPr>
              <a:t>and his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Matura MT Script Capitals"/>
              </a:rPr>
              <a:t>Treasure Shi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Trebuchet MS"/>
              </a:rPr>
              <a:t>Judy M. Dove, Theatre Arts Educato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Trebuchet MS"/>
              </a:rPr>
              <a:t>Martin G.T. Magnet Middle Schoo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Trebuchet MS"/>
              </a:rPr>
              <a:t>1701 Ridge Roa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Trebuchet MS"/>
              </a:rPr>
              <a:t>Raleigh, NC   27607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Trebuchet MS"/>
              </a:rPr>
              <a:t>jdove@wcpss.n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Behind the screen…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ight bulb (60 watt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anging from yardstick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luminum pie pan as reflector and shiel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3809880" y="1219320"/>
            <a:ext cx="3810240" cy="52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 better look….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09320" y="1371240"/>
            <a:ext cx="5410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572000" cy="510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Percussion instruments for sound effects.</a:t>
            </a:r>
            <a:br>
              <a:rPr sz="32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nstruments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294920"/>
            <a:ext cx="738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http://www.musicmotion.com/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133720" y="235908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85800" y="5791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hinese wind gong: </a:t>
            </a:r>
            <a:r>
              <a:rPr b="0" lang="en-US" sz="18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8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www.musicmotion.com/product.htm?pid</a:t>
            </a:r>
            <a:r>
              <a:rPr b="0" lang="en-US" sz="1800" spc="-1" strike="noStrike" u="sng">
                <a:solidFill>
                  <a:srgbClr val="f0b854"/>
                </a:solidFill>
                <a:uFillTx/>
                <a:latin typeface="Arial"/>
                <a:hlinkClick r:id="rId6"/>
              </a:rPr>
              <a:t>=40506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oetry:  starter lin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 fourteen hundred and  ninety two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lumbus sailed the ocean blu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ut a hundred years earlier, ‘though none seem to know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as a fleet commanded by Admiral Zheng He. (pronounced “Chun Ho”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etween 1405 and ’2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fleet of ships landed, but not to wa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-554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457200"/>
            <a:ext cx="7386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Give students key historical moments and vocabulary word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et students work in pair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ssign specific vocabulary and facts to each group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ach pair must come up with lines to add to the poem that continue the retelling of this historical moment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ut all lines together, in order of events, for one longer collaborative “epic” poe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tudents must memorize the poe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y will then create shadow puppets, including silhouettes that show the contrast between Columbus’ ships and Zheng He’s ship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tudents will tell the story as they present a shadow puppet show, and teach other students from visiting classes through their presentatio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Shadow puppets, modeled after the wayang kulit of Indonesia.   Puppets are made of poster board or cereal/gift boxes, with silhouettes cut out and taped to wooden skewers with pointed ends cut off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1261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6172200" cy="48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Writing and storytelling are integrated with the social studies lesson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8960" y="1598760"/>
            <a:ext cx="6430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Details and examples – important writing skills – are encouraged through artistic creation and  physical manipulation of inanimate objects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598760"/>
            <a:ext cx="6172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609588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Students develop a greater understanding of a logical sequence of events as well as basic plot structure through storytelling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598760"/>
            <a:ext cx="60958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095880" cy="464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1447920" cy="1676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971800" y="762120"/>
            <a:ext cx="1419120" cy="1828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343400" y="838080"/>
            <a:ext cx="1419120" cy="1828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638680" y="838080"/>
            <a:ext cx="289584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1066680" y="2514600"/>
            <a:ext cx="1981440" cy="762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3048120" y="2514600"/>
            <a:ext cx="1419120" cy="762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4419720" y="2590920"/>
            <a:ext cx="1419120" cy="761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5715000" y="2514600"/>
            <a:ext cx="2743200" cy="762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1905120" y="3276720"/>
            <a:ext cx="1218960" cy="7617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0"/>
          <a:stretch/>
        </p:blipFill>
        <p:spPr>
          <a:xfrm>
            <a:off x="3048120" y="3276720"/>
            <a:ext cx="1419120" cy="7617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1"/>
          <a:stretch/>
        </p:blipFill>
        <p:spPr>
          <a:xfrm>
            <a:off x="4419720" y="3276720"/>
            <a:ext cx="1419120" cy="7617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2"/>
          <a:stretch/>
        </p:blipFill>
        <p:spPr>
          <a:xfrm>
            <a:off x="5791320" y="3276720"/>
            <a:ext cx="1419120" cy="7617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3"/>
          <a:stretch/>
        </p:blipFill>
        <p:spPr>
          <a:xfrm>
            <a:off x="2362320" y="4038480"/>
            <a:ext cx="1619280" cy="762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4"/>
          <a:stretch/>
        </p:blipFill>
        <p:spPr>
          <a:xfrm>
            <a:off x="3581280" y="4267080"/>
            <a:ext cx="3962520" cy="20844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0" y="480060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Photo:&lt;!--###IMAGE_BRIEF###--&gt;"/>
          <p:cNvPicPr/>
          <p:nvPr/>
        </p:nvPicPr>
        <p:blipFill>
          <a:blip r:embed="rId15"/>
          <a:stretch/>
        </p:blipFill>
        <p:spPr>
          <a:xfrm>
            <a:off x="0" y="4648320"/>
            <a:ext cx="3505320" cy="196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ssessment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219320"/>
            <a:ext cx="7386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ocabulary quizz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hort answer question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aedaeia discussion group – participat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riting lines of poetry with all required elements in the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reating a short play incorporating required elements such as specific historical fact, vocabulary, names with correct pronunciation, literary elements such as basic plot structur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articipation in building puppets and presenting the “show and share” event to other student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One of Christopher Columbus’ ships next to one of Zheng He’s treasure ships, in scale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505320" y="3429000"/>
            <a:ext cx="1419120" cy="7621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3124440" cy="167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304920" y="4343400"/>
          <a:ext cx="7386480" cy="227484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bjective:  to familiarize students with Admiral Zheng he and his Treasure Ship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urpose: so that students will have a more realistic view of world history and foreign accomplishments.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108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or grade 7, but adaptable for any. 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esson duration: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 weeks, flexibl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Matura MT Script Capitals"/>
              </a:rPr>
              <a:t>Sources use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Sources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De Mente, Boye’ Lafayette.  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The Chinese have a Word for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It.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 pp. 148-150, 468-470. 1996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Insight guides: China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.  APA Publications. pp. 24, 93, 94,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98, 99.  2006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Model of Zheng He's treasure ship built in E.China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city”.&lt;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http://english.people.com.cn/200506/21/eng2 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	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6"/>
              </a:rPr>
              <a:t>0050621_191504.html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&gt; . 11 Jan. 2008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Primary Source, Inc. 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The Enduring Legacy of Ancient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China. 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Pp. 269-285.  2006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Zheng he Treasure Ship”.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&lt;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9"/>
              </a:rPr>
              <a:t>http://www.janadkins.com/treasure.html </a:t>
            </a: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&gt;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. 10 Jan.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2008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pecific points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Insight Guides: Chi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. 24 – Ming Dynasty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. 93 – poetry plays an important part in Chinese literature.  Students and civil servants of any branch were expected to be able to write a poem for any occasio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. 94 – poetry written on strips of bamboo, rolled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. 98 – plots are based on history or folklor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. 98 – puppet shows and shadow play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. 99 – symbolism in the art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Students will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Understand the pre-Ming naval accomplishments of the Chines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Appreciate the scope and significance of Zheng He’s voyag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Understand the theory behind the tribute system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Compare and contrast European and Chinese maritime technology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Learn about some of the people, places, and products that figured in the voyages of the Ming treasure fleet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Ask why these spectacular voyages are not well-known in the West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f1311"/>
                </a:solidFill>
                <a:uFillTx/>
                <a:latin typeface="Arial"/>
              </a:rPr>
              <a:t>The Enduring Legacy of Ancient China,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Lesson 20, “China and the South Seas”, p. 271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f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4772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OCIAL STUDIES :: SEVENTH GRADE  ASIA</a:t>
            </a:r>
            <a:br>
              <a:rPr sz="1600"/>
            </a:b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ANGUAGE ARTS ::  SEVENTH GRADE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ARTS EDUCATION :: THEATRE ARTS 6-8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828440"/>
            <a:ext cx="738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ompetency Goal 8The learner will assess the influence and contributions of individuals and cultural groups in Africa, Asia, and Australia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ompetency Goal 1The learner will use language to express individual perspectives in response to personal, social, cultural, and historical issues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OMPETENCY GOAL 2: The learner will act by interacting in improvisations and assuming roles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OMPETENCY GOAL 3: The learner will design and produce theatre by conceptualizing and realizing artistic interpretations for informal or formal productions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OMPETENCY GOAL 4: The learner will direct through planning and presenting informal or formal productions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OMPETENCY GOAL 5: The learner will research by finding information to support informal or formal productions. (National Standard 5)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Key Questions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hat had the Chinese accomplished in terms of maritime technology and travel before the voyages of Zheng He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here did Zheng He and his treasure ships go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hat was the Chinese attitude toward the people and countries they encountered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hy were the Chinese officials opposed to the treasure ships and future voyages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hat did the Chinese state gain from the maritime expeditions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hat if the Chinese had made it all the way to Europe?  How might history have been different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The Enduring Legacy of Ancient China,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Lesson 20, “China and the South Seas”, p. 271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Shadow puppet screen</a:t>
            </a:r>
            <a:br>
              <a:rPr sz="28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made of tri-fold display board and shower curtain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20:41:25Z</dcterms:created>
  <dc:creator>Wake County Public Schools</dc:creator>
  <dc:description/>
  <dc:language>en-US</dc:language>
  <cp:lastModifiedBy>Jane Shlensky</cp:lastModifiedBy>
  <dcterms:modified xsi:type="dcterms:W3CDTF">2008-04-11T04:41:38Z</dcterms:modified>
  <cp:revision>58</cp:revision>
  <dc:subject/>
  <dc:title>Zheng He and his  Treasure Ships</dc:title>
</cp:coreProperties>
</file>